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5B9-9A70-4A19-BF40-85BDA1F0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6D3-CD0F-41D2-8B28-B3437489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438-153F-4129-85DE-7C26F7ED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7AA-B269-4CA7-A079-924CB253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C36-803F-4053-BDC9-99C777CB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C68-19E0-49C7-B4BC-FB05E12C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1DE-830E-416B-9C1A-CEDE3FA7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BC7-C0DA-41BC-82C9-7A2C810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EEB-0B79-445A-ACEA-6916D69B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1AD-9788-402F-BF88-4C1C5D54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4C7C-1229-4C01-9EBA-07A0103E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D3C-7AF8-4D49-BEC0-A728608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3C15-C4AB-40DB-AF3F-D147209BB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 – to arran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y systema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6002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video store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clothes 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phone books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--sports stad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743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deleev: 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ientist to creat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system which organized all of the known elements into rows in order of increasing M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3581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 similar properties we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the same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114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ble Mendeleev created was no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lete (gaps).  The spaces left were of elements that had not been discovered yet.  He predicted they would be in the future (he was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iodic t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lassifies/organizes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ows us t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ompare one element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05740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d by increasing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—different than Mende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 of protons =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tomic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wo ways to read (open to 133-1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733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eriods – row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left to right) =increasing atomic # from L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447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lumn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running up and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905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ments within each/group famil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ave simila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819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roperties of elements repeat in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 predictable way when atomic numbers are used to arrange elements into groups/families = Periodic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Group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sometimes also called famil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the similar properti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n groups/famil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he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ll have the same outer electron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lement on the periodic tab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is represented by a bo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box tells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286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number of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048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member this can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429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ymbol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86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ame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he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2670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f all the elements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1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29718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5:27:57Z</dcterms:created>
  <dc:creator>Farwell Area Schools</dc:creator>
  <dc:description/>
  <dc:language>en-US</dc:language>
  <cp:lastModifiedBy>Farwell Area Schools</cp:lastModifiedBy>
  <dcterms:modified xsi:type="dcterms:W3CDTF">2008-09-16T19:02:12Z</dcterms:modified>
  <cp:revision>17</cp:revision>
  <dc:subject/>
  <dc:title>Note Guide 2-1  </dc:title>
</cp:coreProperties>
</file>